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C07-CFCB-4806-9065-4627D686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992-1601-4AFB-AF7E-BF0870F5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273-B83F-4893-8221-54464E7F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6D9-D323-4A24-856A-3213BB92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19D-F4E0-4DF3-8A93-17AB3FD2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E87-B6F4-41C0-9B6C-773C0FAE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1E9-E19D-4227-A25E-2FE3710E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F99-5352-41C3-83E2-997E2953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978-9B4F-4338-98A8-3FEBCDD0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C82-5660-46F1-8206-AA770757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DFB-AC85-4D0A-AEA8-196A2B7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CA4-B10A-4F75-B957-A91F3AC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ADFF-3669-441D-9EB7-715FDE0EE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603400">
            <a:off x="3782160" y="1211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He/she h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2870280" y="243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0"/>
          <p:cNvSpPr/>
          <p:nvPr/>
        </p:nvSpPr>
        <p:spPr>
          <a:xfrm rot="2868000">
            <a:off x="2977200" y="35438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  <a:ea typeface="Arial"/>
              </a:rPr>
              <a:t>I ha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2666880" y="312408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3"/>
          <p:cNvSpPr/>
          <p:nvPr/>
        </p:nvSpPr>
        <p:spPr>
          <a:xfrm>
            <a:off x="3951360" y="4419720"/>
            <a:ext cx="113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4"/>
          <p:cNvSpPr/>
          <p:nvPr/>
        </p:nvSpPr>
        <p:spPr>
          <a:xfrm>
            <a:off x="7543800" y="350532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5"/>
          <p:cNvSpPr/>
          <p:nvPr/>
        </p:nvSpPr>
        <p:spPr>
          <a:xfrm flipV="1">
            <a:off x="7229520" y="2180880"/>
            <a:ext cx="136044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7"/>
          <p:cNvSpPr/>
          <p:nvPr/>
        </p:nvSpPr>
        <p:spPr>
          <a:xfrm flipV="1">
            <a:off x="6172200" y="2219040"/>
            <a:ext cx="826920" cy="5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9"/>
          <p:cNvSpPr/>
          <p:nvPr/>
        </p:nvSpPr>
        <p:spPr>
          <a:xfrm>
            <a:off x="6815160" y="4386240"/>
            <a:ext cx="83016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2"/>
          <p:cNvSpPr/>
          <p:nvPr/>
        </p:nvSpPr>
        <p:spPr>
          <a:xfrm rot="771000">
            <a:off x="4201920" y="25858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Fath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>
            <a:off x="3817800" y="2867040"/>
            <a:ext cx="113220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5453280" y="287640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6"/>
                </a:solidFill>
                <a:latin typeface="Calibri"/>
                <a:ea typeface="Arial"/>
              </a:rPr>
              <a:t>Eigh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7687800" y="2844720"/>
            <a:ext cx="75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You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ha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 rot="2240400">
            <a:off x="2597040" y="21625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You sing./fam h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0"/>
          <p:cNvSpPr/>
          <p:nvPr/>
        </p:nvSpPr>
        <p:spPr>
          <a:xfrm>
            <a:off x="6386400" y="3324240"/>
            <a:ext cx="84456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2"/>
          <p:cNvSpPr/>
          <p:nvPr/>
        </p:nvSpPr>
        <p:spPr>
          <a:xfrm rot="1984200">
            <a:off x="6176520" y="937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  <a:ea typeface="Arial"/>
              </a:rPr>
              <a:t>We h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4898880" y="390600"/>
            <a:ext cx="127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You (sing./ formal) h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4"/>
          <p:cNvSpPr/>
          <p:nvPr/>
        </p:nvSpPr>
        <p:spPr>
          <a:xfrm rot="849000">
            <a:off x="6134040" y="264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114880" y="4933800"/>
            <a:ext cx="150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Calibri"/>
                <a:ea typeface="Arial"/>
              </a:rPr>
              <a:t>Our brother and sis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 rot="4419000">
            <a:off x="4505400" y="36565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Six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5-Point Star 1"/>
          <p:cNvSpPr/>
          <p:nvPr/>
        </p:nvSpPr>
        <p:spPr>
          <a:xfrm>
            <a:off x="5691240" y="3414600"/>
            <a:ext cx="571320" cy="441360"/>
          </a:xfrm>
          <a:custGeom>
            <a:avLst/>
            <a:gdLst/>
            <a:ahLst/>
            <a:rect l="l" t="t" r="r" b="b"/>
            <a:pathLst>
              <a:path w="571500" h="441325">
                <a:moveTo>
                  <a:pt x="1" y="168571"/>
                </a:moveTo>
                <a:lnTo>
                  <a:pt x="218295" y="168572"/>
                </a:lnTo>
                <a:lnTo>
                  <a:pt x="285750" y="0"/>
                </a:lnTo>
                <a:lnTo>
                  <a:pt x="353205" y="168572"/>
                </a:lnTo>
                <a:lnTo>
                  <a:pt x="571499" y="168571"/>
                </a:lnTo>
                <a:lnTo>
                  <a:pt x="394895" y="272753"/>
                </a:lnTo>
                <a:lnTo>
                  <a:pt x="462353" y="441324"/>
                </a:lnTo>
                <a:lnTo>
                  <a:pt x="285750" y="337140"/>
                </a:lnTo>
                <a:lnTo>
                  <a:pt x="109147" y="441324"/>
                </a:lnTo>
                <a:lnTo>
                  <a:pt x="176605" y="272753"/>
                </a:lnTo>
                <a:lnTo>
                  <a:pt x="1" y="1685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5"/>
          <p:cNvSpPr/>
          <p:nvPr/>
        </p:nvSpPr>
        <p:spPr>
          <a:xfrm rot="1287600">
            <a:off x="6590880" y="32446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5"/>
          <p:cNvSpPr/>
          <p:nvPr/>
        </p:nvSpPr>
        <p:spPr>
          <a:xfrm rot="771000">
            <a:off x="6458760" y="3726000"/>
            <a:ext cx="5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Ju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 rot="19648200">
            <a:off x="5726880" y="2209680"/>
            <a:ext cx="12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6"/>
          <p:cNvSpPr/>
          <p:nvPr/>
        </p:nvSpPr>
        <p:spPr>
          <a:xfrm rot="21190200">
            <a:off x="4913640" y="199368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  <a:ea typeface="Arial"/>
              </a:rPr>
              <a:t>Birth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 rot="376200">
            <a:off x="4146120" y="4503600"/>
            <a:ext cx="118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Your (pl/f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grandmoth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7345800" y="2249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They h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9"/>
          <p:cNvSpPr/>
          <p:nvPr/>
        </p:nvSpPr>
        <p:spPr>
          <a:xfrm rot="1135800">
            <a:off x="3734280" y="315432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Au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 rot="20742600">
            <a:off x="5807520" y="418788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Arial"/>
              </a:rPr>
              <a:t>For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7508520" y="1501920"/>
            <a:ext cx="6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Y’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4014720" y="39132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Cous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 rot="1067400">
            <a:off x="7388280" y="37180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My m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6"/>
          <p:cNvSpPr/>
          <p:nvPr/>
        </p:nvSpPr>
        <p:spPr>
          <a:xfrm rot="1521000">
            <a:off x="6946920" y="442764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64a2"/>
                </a:solidFill>
                <a:latin typeface="Calibri"/>
                <a:ea typeface="Arial"/>
              </a:rPr>
              <a:t>Your (sing/f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64a2"/>
                </a:solidFill>
                <a:latin typeface="Calibri"/>
                <a:ea typeface="Arial"/>
              </a:rPr>
              <a:t>childr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6"/>
          <p:cNvSpPr/>
          <p:nvPr/>
        </p:nvSpPr>
        <p:spPr>
          <a:xfrm rot="2699400">
            <a:off x="6436800" y="480384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His p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36360" y="5162400"/>
            <a:ext cx="37609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40:20Z</dcterms:created>
  <dc:creator>Heffernen, Heather</dc:creator>
  <dc:description/>
  <dc:language>en-US</dc:language>
  <cp:lastModifiedBy>Prine, Stephanie</cp:lastModifiedBy>
  <dcterms:modified xsi:type="dcterms:W3CDTF">2013-11-20T14:53:27Z</dcterms:modified>
  <cp:revision>26</cp:revision>
  <dc:subject/>
  <dc:title>PowerPoint Presentation</dc:title>
</cp:coreProperties>
</file>